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84EFB-B134-48B6-B9C6-EAA90C8071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9A271-9A24-4A98-BCD5-FA137D66C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C762-23EE-48F6-AA96-2BD02C52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E6C7A-562D-477D-B532-CF73A348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7D130-6EDD-41F8-9CF0-C62133DC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45D-E596-4D3F-9795-D449A9B8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AC5-9A2B-4719-AA3F-FCF5A117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8D4-723F-4626-925D-4BAF6C13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F50-8A4B-4F82-B81D-48525104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812A-25F2-4D5F-BCE2-44EC3F20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E740-05FA-4E03-B172-DA223657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E21-1331-4F42-9A9D-90A34C52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1ACF-B2AC-46D9-A0F6-2E4DF2D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0396-5235-4476-A435-2046913A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6AE-3DD2-4EEF-ABB5-94AB894C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5367-1D0A-43B5-A529-ABF674B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010-E553-491B-8E8B-9326B28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9DC2-D52A-4EC3-9E4F-0BBC3B7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2233-A234-4324-995C-CC64C63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4FEB-7AFD-41F4-AC09-D87C815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EB95-4244-4CA8-9F08-CBDF8CC8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516F-2091-402E-8AB6-333F0F74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6BC4-7244-461B-9198-C02FD2D1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41D3-6A01-43D1-A45E-9079713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47F5-F02C-4003-9DBD-7529552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E5A6-1AF9-483F-B219-A1496B00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E6C1-D217-4AEC-B977-3B05771F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EF3-A386-49EA-9652-C3C26326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D928-B7CB-4727-A850-7EA1E7DA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C2FE-7C8A-41E6-9909-6D28857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8D9D-948A-4FAD-A149-B47144A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C893-99DB-421F-8B3B-BBB37B8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8825-355E-4123-A215-B76FBE0F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0862-7A64-45E3-BC1B-395EC409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4431-9682-4722-96E1-9B79238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5955-FE5D-46F7-AA4E-05D601BF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96E6-7AD1-4F4E-A13F-1086A251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0B08-4499-421C-9A54-E5CB9151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AEE-ECA1-489F-8605-505AE55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0943-1874-4EAA-9196-54E94D9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A11F-43CE-4F31-AD3C-428E5E8B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9504-7A87-46F1-8352-37909B72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CA67-7714-4294-B74C-0727357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B28B-A35C-4D10-BEE9-D1EDD44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E9C3-B799-4B2B-9032-49193B7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B867-35A8-4015-A6CF-78C9AC73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49DE-FCE2-4F29-8921-A7B48F0C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3A3E-6166-492F-B884-DF59D650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2048-BD0E-46F4-BC72-64B5996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BE1-700A-4317-A01F-4521D3C5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8045-7DD3-42F1-A18B-C9EDFA7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28EC-ACCB-4483-9E56-2E657FA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1DAE-46C9-4B45-BA7A-40AC1FE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4864-10C9-4FD5-B5A1-48270D5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C4E1-0172-4475-8BC5-5D5EB9F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1712-D02C-47E3-B345-5914C34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E091-66E7-40D2-A591-634E6BA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88BFD-F33B-48C5-802E-6F9B0ED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B2C5-5F1E-42C8-A217-ADE74D4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D56C-6564-4F6B-8CAB-A2510D62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23E-310F-4802-96DE-9DE9F8CB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CF29-9000-4F25-8FA6-3F7A7C50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E2D-3244-405D-8611-91427E0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D1C-1788-4690-97BB-114EF6E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DEA-DA07-481C-BE52-8864170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42C28-CC78-4E6F-8FBF-8AA3E0538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4B719-7160-4B2E-AA3D-7E3BD9300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B5B68-08B2-43D2-8C38-B8E12EF9C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C4420-A2B3-4616-8535-1BA71C842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6DBE7-E36C-414C-B6CF-D2D324138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8071-3D8C-4222-A4B1-1B4E90986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The offspring of asexual reproduction ar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Identical to the parent organ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Similar to a parent organ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A combination of two parent organism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d0a10"/>
                </a:solidFill>
                <a:latin typeface="Calibri"/>
              </a:rPr>
              <a:t>Prokaryotic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700"/>
            </a:br>
            <a:br>
              <a:rPr sz="4700"/>
            </a:b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Geneticists use letters to represent the different forms of a gene. </a:t>
            </a: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	</a:t>
            </a: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	</a:t>
            </a:r>
            <a:br>
              <a:rPr sz="4700"/>
            </a:br>
            <a:r>
              <a:rPr b="1" lang="en-US" sz="4700" spc="-1" strike="noStrike" u="sng">
                <a:solidFill>
                  <a:srgbClr val="161616"/>
                </a:solidFill>
                <a:uFillTx/>
                <a:latin typeface="Calibri"/>
              </a:rPr>
              <a:t>Dominant traits are represented by a capital letter</a:t>
            </a: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161616"/>
                </a:solidFill>
                <a:latin typeface="Calibri"/>
              </a:rPr>
              <a:t>Yellow seeds are dominant…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8000" spc="-1" strike="noStrike">
                <a:solidFill>
                  <a:srgbClr val="ffff00"/>
                </a:solidFill>
                <a:latin typeface="Calibri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4" descr="j0344866"/>
          <p:cNvPicPr/>
          <p:nvPr/>
        </p:nvPicPr>
        <p:blipFill>
          <a:blip r:embed="rId1"/>
          <a:stretch/>
        </p:blipFill>
        <p:spPr>
          <a:xfrm rot="16624200">
            <a:off x="6043680" y="4628880"/>
            <a:ext cx="317808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 u="sng">
                <a:solidFill>
                  <a:srgbClr val="161616"/>
                </a:solidFill>
                <a:uFillTx/>
                <a:latin typeface="Calibri"/>
                <a:ea typeface="Times New Roman"/>
              </a:rPr>
              <a:t>Recessive genes (for the same trait) are represented by THE SAME lower case letter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  <a:ea typeface="Times New Roman"/>
              </a:rPr>
              <a:t>Green seeds are recessive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y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Dominant (yellow) =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Recessive (green) =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j0344866"/>
          <p:cNvPicPr/>
          <p:nvPr/>
        </p:nvPicPr>
        <p:blipFill>
          <a:blip r:embed="rId1"/>
          <a:stretch/>
        </p:blipFill>
        <p:spPr>
          <a:xfrm rot="16624200">
            <a:off x="5627160" y="4336200"/>
            <a:ext cx="36129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re dominant traits represented by capital letters or lower case letter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re recessive traits represented by capital letters or lower case letter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f purple petal color is dominant, will the symbol for purple color be P or p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04920" y="3805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In pea plants, tall is dominant over short.  The letter used to represent the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all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gene is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The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shor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161616"/>
                </a:solidFill>
                <a:latin typeface="Calibri"/>
              </a:rPr>
              <a:t>gene is represented by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495320" y="3429000"/>
            <a:ext cx="4343400" cy="2819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all =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Short = 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j0309713"/>
          <p:cNvPicPr/>
          <p:nvPr/>
        </p:nvPicPr>
        <p:blipFill>
          <a:blip r:embed="rId1"/>
          <a:stretch/>
        </p:blipFill>
        <p:spPr>
          <a:xfrm>
            <a:off x="4876920" y="304920"/>
            <a:ext cx="320040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61616"/>
                </a:solidFill>
                <a:latin typeface="Calibri"/>
              </a:rPr>
              <a:t>In humans, brown eyes are dominant over blu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10" descr="j0236210"/>
          <p:cNvPicPr/>
          <p:nvPr/>
        </p:nvPicPr>
        <p:blipFill>
          <a:blip r:embed="rId1"/>
          <a:stretch/>
        </p:blipFill>
        <p:spPr>
          <a:xfrm>
            <a:off x="2362320" y="1828800"/>
            <a:ext cx="4332240" cy="1506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Brown = 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Blue = 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 u="sng">
                <a:solidFill>
                  <a:srgbClr val="161616"/>
                </a:solidFill>
                <a:uFillTx/>
                <a:latin typeface="Calibri"/>
              </a:rPr>
              <a:t>Dominant genes hide recessive genes when both are inherited by an organism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61616"/>
                </a:solidFill>
                <a:latin typeface="Calibri"/>
              </a:rPr>
              <a:t>Y + y = yellow seeds </a:t>
            </a: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(yellow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T + t = tall plant  (tall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B+ b = brown eyes (brown is domin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j0344866"/>
          <p:cNvPicPr/>
          <p:nvPr/>
        </p:nvPicPr>
        <p:blipFill>
          <a:blip r:embed="rId1"/>
          <a:stretch/>
        </p:blipFill>
        <p:spPr>
          <a:xfrm rot="17656800">
            <a:off x="4611600" y="2474640"/>
            <a:ext cx="2189160" cy="592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eanstalk"/>
          <p:cNvPicPr/>
          <p:nvPr/>
        </p:nvPicPr>
        <p:blipFill>
          <a:blip r:embed="rId2"/>
          <a:stretch/>
        </p:blipFill>
        <p:spPr>
          <a:xfrm>
            <a:off x="6553080" y="2438280"/>
            <a:ext cx="13478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447920"/>
            <a:ext cx="8534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If yellow seeds (Y) are dominant and green seeds (y) are recessive, and an organism has one Y gene and one y gene, what color seeds will the organism hav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If you cross a green cobra with a yellow cobra, and there are 5 green baby cobras and 2 yellow baby cobras, which trait is domin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Yellow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Green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Yellow and green stri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Calibri"/>
              </a:rPr>
              <a:t>Orange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161616"/>
                </a:solidFill>
                <a:latin typeface="Calibri"/>
              </a:rPr>
              <a:t>If you cross a big viper with a medium viper, and all the baby vipers are medium size, which trait is recessive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(notes on gene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161616"/>
                </a:solidFill>
                <a:latin typeface="Calibri"/>
              </a:rPr>
              <a:t>If you cross a blue dragon and a red dragon, and you get 3 blue dragons and one red dragon which trait is recessiv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161616"/>
                </a:solidFill>
                <a:latin typeface="Calibri"/>
              </a:rPr>
              <a:t>If one parent has detached earlobes and the other parent has attached earlobes, and all of their children have detached earlobes, which trait is dominant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161616"/>
                </a:solidFill>
                <a:latin typeface="Calibri"/>
              </a:rPr>
              <a:t>If you cross a blue eyed dog with a brown eyed dog, and all the puppies have brown eyes, which trait is recessiv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161616"/>
                </a:solidFill>
                <a:latin typeface="Calibri"/>
              </a:rPr>
              <a:t>If a short tail is dominant, will the symbol for a short tail be  T or t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161616"/>
                </a:solidFill>
                <a:latin typeface="Calibri"/>
              </a:rPr>
              <a:t>If small ears are recessive, will the symbol for small ears be  S or s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447920"/>
            <a:ext cx="8534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2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If brown hair (B) is dominant and red hair (b) is recessive, and an organism has one B gene and one b gene, what color hair will the organism have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3.6 Independent Practic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WBAT identify the effects of dominant and recessive traits in offspr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3.6 Genetics Class Not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Mendel</a:t>
            </a:r>
            <a:br>
              <a:rPr sz="4900"/>
            </a:br>
            <a:br>
              <a:rPr sz="4900"/>
            </a:br>
            <a:r>
              <a:rPr b="1" lang="en-US" sz="4900" spc="-1" strike="noStrike">
                <a:solidFill>
                  <a:srgbClr val="161616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 u="sng">
                <a:solidFill>
                  <a:srgbClr val="0d0a10"/>
                </a:solidFill>
                <a:uFillTx/>
                <a:latin typeface="Calibri"/>
              </a:rPr>
              <a:t>Mendel discovered that traits are passed or inherited from one generation to the nex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mendel w plant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027920" y="4336920"/>
            <a:ext cx="1658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d0a1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d0a10"/>
                </a:solidFill>
                <a:uFillTx/>
                <a:latin typeface="Calibri"/>
              </a:rPr>
              <a:t>Organisms inherit one gene for a trait from each parent.  As a result, an organism can have two different genes for the same trait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o is Mende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an you have two different genes for the same trai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en-US" sz="4500" spc="-1" strike="noStrike" u="sng">
                <a:solidFill>
                  <a:srgbClr val="161616"/>
                </a:solidFill>
                <a:uFillTx/>
                <a:latin typeface="Calibri"/>
              </a:rPr>
              <a:t>Some genes are dominant, </a:t>
            </a:r>
            <a:br>
              <a:rPr sz="4500"/>
            </a:br>
            <a:r>
              <a:rPr b="1" lang="en-US" sz="4500" spc="-1" strike="noStrike" u="sng">
                <a:solidFill>
                  <a:srgbClr val="161616"/>
                </a:solidFill>
                <a:uFillTx/>
                <a:latin typeface="Calibri"/>
              </a:rPr>
              <a:t>while others are recessive.</a:t>
            </a:r>
            <a:br>
              <a:rPr sz="4500"/>
            </a:br>
            <a:r>
              <a:rPr b="1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02212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“</a:t>
            </a: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Stronger” traits are called dominan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161616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“</a:t>
            </a:r>
            <a:r>
              <a:rPr b="1" lang="en-US" sz="4900" spc="-1" strike="noStrike" u="sng">
                <a:solidFill>
                  <a:srgbClr val="161616"/>
                </a:solidFill>
                <a:uFillTx/>
                <a:latin typeface="Calibri"/>
              </a:rPr>
              <a:t>Weaker” traits are called recessiv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10" descr="j0078746"/>
          <p:cNvPicPr/>
          <p:nvPr/>
        </p:nvPicPr>
        <p:blipFill>
          <a:blip r:embed="rId1"/>
          <a:stretch/>
        </p:blipFill>
        <p:spPr>
          <a:xfrm>
            <a:off x="6080040" y="2971800"/>
            <a:ext cx="30639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e difference between dominant and recessive trait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0:50Z</dcterms:created>
  <dc:creator>Caroline Roth</dc:creator>
  <dc:description/>
  <dc:language>en-US</dc:language>
  <cp:lastModifiedBy>Caroline Roth</cp:lastModifiedBy>
  <dcterms:modified xsi:type="dcterms:W3CDTF">2011-05-24T01:29:00Z</dcterms:modified>
  <cp:revision>3</cp:revision>
  <dc:subject/>
  <dc:title>Bellringer</dc:title>
</cp:coreProperties>
</file>